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7A0F-CAE4-494B-8701-A459254A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67C2-2D3C-426E-9A96-4A70C6AF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EA2D-4BD0-48E0-8984-C4713848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0751-F69F-4196-8F46-534F896E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567C-1AEB-42CF-8C61-0070F4FB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E0EF-F666-48CC-BAEB-BF192679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6170-2601-4CAF-A6FF-3B564BFA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A7C4-C9F6-43E3-B313-33BD7A66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C58-B9FD-4AB1-87E6-F0724BFA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4BE6-274D-4670-BE3E-FB7D7D8C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7604-122D-4E34-9B12-C92720FA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E06F-BB20-441C-9A08-A9B9938E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3018-AC5A-482E-AC34-0C7990B4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8E27-A99B-4962-B7CE-74B8F00F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16BC-E4EE-4237-A258-E0888560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3B3E-10F5-4E6E-AF3B-1464DE3B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BA22-8008-41E0-805F-C6EE05D6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C95D-857F-4F43-A81A-6D52AF2D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A7BF-DFB7-4635-BB33-A6F041A5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DB97-1005-48F1-8BA4-813D753A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C3F8-48B3-4F1B-A310-C5648E52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0591-E852-4FAB-8686-1E698ACA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60E6-4FCF-4D09-BB30-FEFEF8E9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1D44-9C02-414C-997C-47F64A93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FC82-F7D1-4EC0-BE46-3E494833E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3299-C434-48AF-AFF0-5790326DD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FGVX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FGVX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ipher involves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trans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stitution involves a 6 x 6 square where the rows and columns are labeled by the letters ADFGV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etters were selected because they are easy to distinguish as Mors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position is a simple column transposition based on a key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E3A6-CB00-4D2C-811C-1110BDA92B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13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letters and 10 digits are entered into a 6 x 6 matrix using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86400" y="2971800"/>
            <a:ext cx="2786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D  F  G  V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1680" y="304812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eyword:  when2go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35053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  h  e  n  2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657600"/>
            <a:ext cx="32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nter the keyword and then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ill in the rest of the matrix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sing the unused letters and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mbers i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320" y="4070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  9  3  a  b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4320" y="4603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 f  i  j  k 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2520" y="5159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  p  q  r  s 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33160" y="57150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  v  x  y  z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31360" y="62564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 4  5  6  7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53400" y="6272280"/>
            <a:ext cx="100944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587B-35C2-46CC-869E-F1A4C92123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7400" y="1774440"/>
            <a:ext cx="761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tter and number in the plaintext is replaced by the letters on the column and row headings of th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86400" y="2971800"/>
            <a:ext cx="2970360" cy="3660120"/>
            <a:chOff x="986400" y="2971800"/>
            <a:chExt cx="2970360" cy="3660120"/>
          </a:xfrm>
        </p:grpSpPr>
        <p:sp>
          <p:nvSpPr>
            <p:cNvPr id="130" name=""/>
            <p:cNvSpPr/>
            <p:nvPr/>
          </p:nvSpPr>
          <p:spPr>
            <a:xfrm>
              <a:off x="986400" y="2971800"/>
              <a:ext cx="278676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  D  F  G  V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8200" y="35053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  h  e  n  2 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4320" y="4070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  9  3  a  b 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4320" y="460368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  f  i  j  k  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2520" y="5159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  p  q  r  s  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33160" y="57150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  v  x  y  z 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31360" y="625644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  4  5  6  7  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383720" y="4219560"/>
            <a:ext cx="40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text:   n   e   x   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hertext:   AG  AF  VF  G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75360" y="6219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8661-6023-4DE5-B3CE-28A7F63708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lumn transposition with a keyword, the ciphertext is written in rows and then read in columns in a specified o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4322880"/>
            <a:ext cx="16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A G G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X G F X D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V A A D X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 G D G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G A V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0240" y="5178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57920" y="4707000"/>
            <a:ext cx="25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d down columns in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 – 6 - 1- 2 – 5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7480" y="48848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FADG VXXGG AXVFA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GAGF GDXXV GXD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7083360" y="6124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A8958-321D-4EE0-BB86-97E6D805CD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8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 both of which are determined by a keyw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 because it has 7 let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19880" y="5411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05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081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29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555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3224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128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8320" y="603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61800" y="60642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DE90-D60E-4781-A353-9FC2DF5AE8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DFGVX cipher from the cipher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7360" y="2962440"/>
            <a:ext cx="5691240" cy="3695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56480" y="3432240"/>
            <a:ext cx="1238040" cy="696960"/>
          </a:xfrm>
          <a:prstGeom prst="wedgeRoundRectCallout">
            <a:avLst>
              <a:gd name="adj1" fmla="val -42819"/>
              <a:gd name="adj2" fmla="val 1060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keyword sets up th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2760" y="4452840"/>
            <a:ext cx="1384200" cy="851040"/>
          </a:xfrm>
          <a:prstGeom prst="wedgeRoundRectCallout">
            <a:avLst>
              <a:gd name="adj1" fmla="val -43578"/>
              <a:gd name="adj2" fmla="val 95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keyword sets up colum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93680" y="6205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B381-195E-4508-BB86-4B88C6FF3A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9T01:54:56Z</dcterms:modified>
  <cp:revision>40</cp:revision>
  <dc:subject/>
  <dc:title>CAP Cryptographic Analysis Program</dc:title>
</cp:coreProperties>
</file>